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FB6E-6796-439D-8804-DBAFEF58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AF5-75C6-4B6E-926A-04AD9B5E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4573-A7A3-4C25-B323-052D43B5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E1AD-405F-4A10-819A-7C93B8AD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BAF6-9591-4F8D-BDFC-501A7DD1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11B-B921-486A-B9B5-350224A2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02A5-0035-4971-A1B9-F24FF13C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987B-6BE8-49FD-8701-DE916B35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AE2-4D25-4710-8737-5C36FDE7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607B-5B35-4978-84E3-4D72B20E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5AF3-A24B-4BA1-BC1D-E3DDCE95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A605-76CE-4169-A33B-6DB55CCE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C419-B46D-4EFB-8731-916854B5D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765000"/>
            <a:ext cx="2592360" cy="1295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1402920" y="2205000"/>
            <a:ext cx="144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2924280"/>
            <a:ext cx="2592360" cy="165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ZIONE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di un pa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ne vanno all’ester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ere e crear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7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5157720"/>
            <a:ext cx="2737080" cy="1440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 italiani sono s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ti in molti paesi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he se meno di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,lo sono anche ogg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5445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67280" y="4869000"/>
            <a:ext cx="158436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 princip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779640" y="5734080"/>
            <a:ext cx="360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6093000"/>
            <a:ext cx="144000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i euro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580536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308640"/>
            <a:ext cx="1152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573408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6093000"/>
            <a:ext cx="122400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1125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333360"/>
            <a:ext cx="1800000" cy="1224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van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vere in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ro paese 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516720" y="620280"/>
            <a:ext cx="934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96360" y="260280"/>
            <a:ext cx="129672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v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126828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51640" y="1413000"/>
            <a:ext cx="1297080" cy="1726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ggire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u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emp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r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700280"/>
            <a:ext cx="1008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1773360"/>
            <a:ext cx="2952720" cy="18716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 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o in un paese arriv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nieri a vivere e cerc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93080" y="3716280"/>
            <a:ext cx="5032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67640" y="3357720"/>
            <a:ext cx="1297080" cy="1511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t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ratu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308360" y="501336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6720" y="5445000"/>
            <a:ext cx="1150920" cy="576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44000" y="5157720"/>
            <a:ext cx="73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40720" y="5805360"/>
            <a:ext cx="1224000" cy="792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7:56:26Z</dcterms:created>
  <dc:creator>studente</dc:creator>
  <dc:description/>
  <dc:language>en-US</dc:language>
  <cp:lastModifiedBy>studente</cp:lastModifiedBy>
  <dcterms:modified xsi:type="dcterms:W3CDTF">2016-12-05T08:41:49Z</dcterms:modified>
  <cp:revision>4</cp:revision>
  <dc:subject/>
  <dc:title>Diapositiva 1</dc:title>
</cp:coreProperties>
</file>